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37D-FF40-4223-A650-6B9D1DDF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420-4BAD-4697-86CF-237DF9CE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F30-FC27-4618-9378-DA2E0C11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D1C-1FCF-4B77-9DF4-AED9D3C1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2EC0-6014-41D3-B080-E7163212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D1E0-140D-40A4-B9E1-192C4BE9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38EE-FD61-4415-98E0-4102F986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9A65-AE44-4D88-AF72-CBFAE985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9B98-3521-4DEA-886C-F2A458E8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B112-6B51-4439-AF3E-E76C8F94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EDD1-8F6A-42CF-8A87-0913B555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7AB-1D52-4EBF-8C31-EA22F970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02AE-9A6F-4D39-A94B-E3C12010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739B-2B2B-47DB-BB4B-73F23CDC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80DE-2734-4579-8A2D-5CED7AEE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0001-CCA9-4AFA-9993-6F1643DD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4BEF-BB81-4C1E-AC71-DFE8F108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5D2-A025-4EE6-B97D-B6845A04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175-33DC-4ABF-B3EE-4813E99D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45E-8100-4327-92FE-22DB8995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395-50D6-4FB6-99BE-D014DDFD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9D8-CDBB-4095-9336-30A10A30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99DF-5630-4ABF-A42E-2B14B1DC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78F-3878-485F-A2F9-DD36E9B7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b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eaebd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18a64"/>
                </a:gs>
                <a:gs pos="50000">
                  <a:srgbClr val="72a376"/>
                </a:gs>
                <a:gs pos="100000">
                  <a:srgbClr val="618a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db5353"/>
                </a:gs>
                <a:gs pos="100000">
                  <a:srgbClr val="90363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515e51"/>
                </a:gs>
                <a:gs pos="50000">
                  <a:srgbClr val="b0ccb0"/>
                </a:gs>
                <a:gs pos="100000">
                  <a:srgbClr val="515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0363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db5353"/>
                </a:gs>
                <a:gs pos="100000">
                  <a:srgbClr val="90363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363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b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734E-DFC1-4883-82E8-A11B113A4C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b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eaebd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618a64"/>
                </a:gs>
                <a:gs pos="50000">
                  <a:srgbClr val="72a376"/>
                </a:gs>
                <a:gs pos="100000">
                  <a:srgbClr val="618a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prstGeom prst="pi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db5353"/>
                </a:gs>
                <a:gs pos="100000">
                  <a:srgbClr val="90363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prstGeom prst="pie">
              <a:avLst/>
            </a:prstGeom>
            <a:gradFill rotWithShape="0">
              <a:gsLst>
                <a:gs pos="0">
                  <a:srgbClr val="515e51"/>
                </a:gs>
                <a:gs pos="50000">
                  <a:srgbClr val="b0ccb0"/>
                </a:gs>
                <a:gs pos="100000">
                  <a:srgbClr val="515e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0363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prstGeom prst="pi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db5353"/>
                </a:gs>
                <a:gs pos="100000">
                  <a:srgbClr val="90363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0363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b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2891-CEED-4405-B23F-733E385CC8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i"/>
          <p:cNvPicPr/>
          <p:nvPr/>
        </p:nvPicPr>
        <p:blipFill>
          <a:blip r:embed="rId1"/>
          <a:stretch/>
        </p:blipFill>
        <p:spPr>
          <a:xfrm>
            <a:off x="4495680" y="2514600"/>
            <a:ext cx="4648320" cy="42530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0" y="152280"/>
            <a:ext cx="7307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5d00e"/>
                </a:solidFill>
                <a:latin typeface="Times New Roman"/>
              </a:rPr>
              <a:t>И мы сохраним тебя, русская речь, великое русское слово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Неизвестен - Про русский язык и лит-ру.mp3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5" name="из_к_ф_Стиляги_-_Буги_вуги_(минус)_(2_52)(www.foxplay.info).mp3" descr=""/>
          <p:cNvPicPr/>
          <p:nvPr/>
        </p:nvPicPr>
        <p:blipFill>
          <a:blip r:embed="rId3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7048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7293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i"/>
          <p:cNvPicPr/>
          <p:nvPr/>
        </p:nvPicPr>
        <p:blipFill>
          <a:blip r:embed="rId1"/>
          <a:stretch/>
        </p:blipFill>
        <p:spPr>
          <a:xfrm>
            <a:off x="0" y="0"/>
            <a:ext cx="8153280" cy="6818400"/>
          </a:xfrm>
          <a:prstGeom prst="rect">
            <a:avLst/>
          </a:prstGeom>
          <a:ln w="0">
            <a:noFill/>
          </a:ln>
        </p:spPr>
      </p:pic>
      <p:pic>
        <p:nvPicPr>
          <p:cNvPr id="197" name="Евгений Гришковец (Детали) - Про русский язык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67396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ext Box 4" descr=""/>
          <p:cNvPicPr/>
          <p:nvPr/>
        </p:nvPicPr>
        <p:blipFill>
          <a:blip r:embed="rId1"/>
          <a:stretch/>
        </p:blipFill>
        <p:spPr>
          <a:xfrm>
            <a:off x="255600" y="128520"/>
            <a:ext cx="8680320" cy="6278760"/>
          </a:xfrm>
          <a:prstGeom prst="rect">
            <a:avLst/>
          </a:prstGeom>
          <a:ln w="0">
            <a:noFill/>
          </a:ln>
        </p:spPr>
      </p:pic>
      <p:pic>
        <p:nvPicPr>
          <p:cNvPr id="199" name="RISE_MULTI_MOVER_016.mp3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" name="s_zvonok.mp3" descr=""/>
          <p:cNvPicPr/>
          <p:nvPr/>
        </p:nvPicPr>
        <p:blipFill>
          <a:blip r:embed="rId3"/>
          <a:stretch/>
        </p:blipFill>
        <p:spPr>
          <a:xfrm>
            <a:off x="685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948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1836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x_828b6d4d"/>
          <p:cNvPicPr/>
          <p:nvPr/>
        </p:nvPicPr>
        <p:blipFill>
          <a:blip r:embed="rId1"/>
          <a:stretch/>
        </p:blipFill>
        <p:spPr>
          <a:xfrm>
            <a:off x="762120" y="1143000"/>
            <a:ext cx="4101840" cy="54770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609480" y="45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Text Box 5" descr=""/>
          <p:cNvPicPr/>
          <p:nvPr/>
        </p:nvPicPr>
        <p:blipFill>
          <a:blip r:embed="rId2"/>
          <a:stretch/>
        </p:blipFill>
        <p:spPr>
          <a:xfrm>
            <a:off x="-324000" y="-66600"/>
            <a:ext cx="9596520" cy="4930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есенка о реформе русского языка Оливье-шоу2009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" descr="i"/>
          <p:cNvPicPr/>
          <p:nvPr/>
        </p:nvPicPr>
        <p:blipFill>
          <a:blip r:embed="rId1"/>
          <a:stretch/>
        </p:blipFill>
        <p:spPr>
          <a:xfrm>
            <a:off x="0" y="3073320"/>
            <a:ext cx="3809880" cy="3784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19371"/>
          <p:cNvPicPr/>
          <p:nvPr/>
        </p:nvPicPr>
        <p:blipFill>
          <a:blip r:embed="rId2"/>
          <a:stretch/>
        </p:blipFill>
        <p:spPr>
          <a:xfrm>
            <a:off x="6191280" y="2590920"/>
            <a:ext cx="2952720" cy="4267080"/>
          </a:xfrm>
          <a:prstGeom prst="rect">
            <a:avLst/>
          </a:prstGeom>
          <a:ln w="0">
            <a:noFill/>
          </a:ln>
        </p:spPr>
      </p:pic>
      <p:pic>
        <p:nvPicPr>
          <p:cNvPr id="207" name="Text Box 4" descr=""/>
          <p:cNvPicPr/>
          <p:nvPr/>
        </p:nvPicPr>
        <p:blipFill>
          <a:blip r:embed="rId3"/>
          <a:stretch/>
        </p:blipFill>
        <p:spPr>
          <a:xfrm>
            <a:off x="152280" y="-6480"/>
            <a:ext cx="780264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ГИА 9 класс. Аудиозапись для изложения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5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676a55"/>
                </a:solidFill>
                <a:uFillTx/>
                <a:latin typeface="Times New Roman"/>
              </a:rPr>
              <a:t>ЗАПОВЕДИ РЕЧЕВОГО ПОВЕДЕНИЯ:</a:t>
            </a: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сегда знай, с какой целью и зачем говор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Помни, что вежливость- основа речевого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Избегай слов-парази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4. Говори просто, четко, поня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5.Следуй высоким образц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6. Не думай, что, употребляя грубые слова, ты кажешься взрос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7. Избегай речевого однообрази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5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685800" y="274320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!!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9-25T10:33:4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